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D07-B2ED-4C57-A014-F45F6389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498-72E5-4E5F-BF3B-F0CBDA5C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663-C2B8-47A3-B966-85F6EE06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9C0-482C-43C4-B731-1417D6C8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BA70-D70A-4E3A-8F5A-D4AD2B1E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273A-C2CB-4D2F-8F8B-FAFD96EF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3DC5-0C67-44F7-A540-3007FD1E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17CA-71CE-4A5D-BFEB-2ADCBE08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35BA-DA3C-4450-BD0C-9747BADA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3EC7-FA41-4332-99F6-30F2E4AB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4E3B-2F0C-4FDB-B156-37A5AD1B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32D-897B-407F-A4AF-1D75973C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F08B-5829-4B8D-90B3-B078079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F4AF-8388-4DCC-AE16-8DD9060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01F9-0AA0-4841-A6EB-4F901986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2F0B-B4E5-4C25-8C2C-BAAB1731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8413-14D6-4DE9-B607-D5A3A88B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510-CB44-47A4-AF51-1505E9F5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08C-AC20-4323-9DAD-9818B6E0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225-40BF-48E6-8CF0-1BEC7384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2B6-D85F-4E27-8950-241A5AD5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632-B258-4502-A2E7-4B86F219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662-7505-45FC-9822-761EB4E4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A76-99F0-41B8-8493-129AD561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670A-DD20-404E-9F37-351FC6EC0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DAAB-D7E1-4CCF-8A4E-C5C0E1454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reshme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.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 story-pg. 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others recipe says to use 2 T. of chili powder and 6 handsful of rice but both of my brother in laws like xtra chili powder and less 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e:raisin::plum: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:Seek::Flail: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swer Ke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other’s recipe says to use two tablespoons of chili powder and 6 handfuls of rice, but both of m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thers-in-law like extra chili powder and less 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5:59:59Z</dcterms:created>
  <dc:creator>VMS</dc:creator>
  <dc:description/>
  <dc:language>en-US</dc:language>
  <cp:lastModifiedBy>Angie McCall</cp:lastModifiedBy>
  <dcterms:modified xsi:type="dcterms:W3CDTF">2011-09-16T13:40:01Z</dcterms:modified>
  <cp:revision>3</cp:revision>
  <dc:subject/>
  <dc:title>Freshmen</dc:title>
</cp:coreProperties>
</file>